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039-0B05-435A-B060-8D626F27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219-7677-4B36-BF74-DA912485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1B9-0028-4C01-AA4A-3E777963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4DC-E505-4F61-BDAC-403187B2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8B6-86C1-4CAF-97B3-4B41FEF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F7E-5335-434C-9FE4-E63DCE1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3ED-0A10-4A17-9840-6348438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11C-9AE2-41B8-AF4F-7265CB7C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18D-9A32-4228-89EC-969B44AB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7D5-D528-4F51-BFF0-1840E05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49F-1FEC-4EF7-AAA7-EED8B9D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35B-B10E-4612-AC1E-05029B8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36E-3A62-4014-9CAA-2037602B6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cr.coriell.org/Sections/BrowseCatalog/FamilyTypeSubDetail.aspx?PgId=402&amp;fam=722&amp;coll=G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nding the Needles in the Haystack: searching for ncRNAs in the RNAseq data from K562 cel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61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lessandro Guffanti, Dario Corrada,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nand Santosh &amp; Giulia Solda’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lessandro.guffanti@genomn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1728720" cy="137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194292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Immagine 4" descr="logo_itb.gif"/>
          <p:cNvPicPr/>
          <p:nvPr/>
        </p:nvPicPr>
        <p:blipFill>
          <a:blip r:embed="rId3"/>
          <a:stretch/>
        </p:blipFill>
        <p:spPr>
          <a:xfrm>
            <a:off x="3487680" y="5286240"/>
            <a:ext cx="1584360" cy="99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7174080" y="5286240"/>
            <a:ext cx="969840" cy="10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9" descr="Main"/>
          <p:cNvPicPr/>
          <p:nvPr/>
        </p:nvPicPr>
        <p:blipFill>
          <a:blip r:embed="rId5"/>
          <a:stretch/>
        </p:blipFill>
        <p:spPr>
          <a:xfrm>
            <a:off x="857160" y="5305320"/>
            <a:ext cx="2143080" cy="90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5500800" y="5429160"/>
            <a:ext cx="12762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Some preliminary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: Genome m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36033525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62896499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2: m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32529509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57704240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3a: CCDS 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14874507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29559201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3b: mi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319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674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3c: r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8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1066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Some preliminary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3d: t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12078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3543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3e: sno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5570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15389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3f: 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1982248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2828063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4a: coding RefS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10626823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19495897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4B: non coding RefS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: Reported 1126926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to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2197400 alignments to 1 output stream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Some preliminary ncRNA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562 si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) 2.828.063 reads correspond to transcripts matching to the Hs genome and EST subset but NOT matching with UCSC mrna, CCDS nucleotide, miRNAs, rRNAs, tRNAs, snoR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rrespond to 803.645 distinct ESTs and each EST is covered by 1 to NNN different reads =&gt;clustering and ncRNA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) 2.197.400 reads correspond to 2.156 different RefSeq ncR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represented are NR_003586.1 with &gt; 112.000 reads and NR_002819 with &gt; 61.000 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RefSeq ncRNA cou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343240" y="1643040"/>
            <a:ext cx="4371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ncRNA func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64396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85840" y="4305240"/>
            <a:ext cx="871524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285840" y="5000760"/>
            <a:ext cx="864396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285840" y="6000840"/>
            <a:ext cx="30002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000080" y="1281240"/>
            <a:ext cx="7067520" cy="207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909720" y="4186080"/>
            <a:ext cx="732456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00160" y="1371600"/>
            <a:ext cx="69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mapping pipeline, table parsing and loading o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ing of datasets A,B,C for each technology (Solexa, Helicos, SOL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ing of the three datasets for all the three technologies: count and selection of the most represented transcripts (EST supported; known ncRNA; only mapping on the gen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correlation of the genome mapping versus genome annotation (are we really excluding any known coding R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RNA prediction pipeline: collaboration with J.Mattick’s group, Brisbane,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562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GMS Human Genetic Cell Reposi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herited Disor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tations of the Hemoglobin Lo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Descri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HUMAN ERYTHROLEUKEMIC CELL LINES CHRONIC MYELOGENOUS LEUK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psy Sour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ipheral ve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-Lymphocy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ssue 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o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pstein-Barr Vir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omo sapi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53 Y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m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uca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7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 Me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 to Prob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b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ly Affec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nical summary/Case his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r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ine K562; established from a patient with chronic myelogenous leukemia by Lozzio and Lozzio; produces embryonic hemoglobin in response to hemin; modal number of chromosomes = 60; range is 55-62; structural aberrations for chromosomes #1, #3, #9, #13, and #14 were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11440" y="210960"/>
            <a:ext cx="5680080" cy="649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128520"/>
            <a:ext cx="8217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Exploring the ncRNA world: 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identifying known ncR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17000" cy="4906800"/>
        </p:xfrm>
        <a:graphic>
          <a:graphicData uri="http://schemas.openxmlformats.org/drawingml/2006/table">
            <a:tbl>
              <a:tblPr/>
              <a:tblGrid>
                <a:gridCol w="4103640"/>
                <a:gridCol w="4113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RNA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unique ncRNAs matching the breast cancer library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RN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oR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R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uR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R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mR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regulatory RNAs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 genes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inted tran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sense tran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cer associated tran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ressed pseudoge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icted conserved secondary structure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ame regulatory RNA may belong to more than one sub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miRNA and snoRNA host transcripts are consider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RNASearch predictions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rarinsson et al., 2006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n ncRNAs were retrieved from both RNAdb and NONCODE databases (see Metho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30120" indent="-33012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reviations: snoRNA, small nucleolar RNAs; piRNA, Piwi-associated small RNAs; scAluRNA, small cytoplasmic Alu-repeat RNAs; snRNAs, small nuclear RNAs; snmRNAs, small mithocondrial RNAs; TUF, transcripts of unknown funct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olo 1"/>
          <p:cNvSpPr/>
          <p:nvPr/>
        </p:nvSpPr>
        <p:spPr>
          <a:xfrm>
            <a:off x="387360" y="431640"/>
            <a:ext cx="8217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An interesting ncRNA: MALAT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3"/>
          <p:cNvSpPr/>
          <p:nvPr/>
        </p:nvSpPr>
        <p:spPr>
          <a:xfrm>
            <a:off x="319320" y="4724280"/>
            <a:ext cx="8568720" cy="184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ff3300"/>
                </a:solidFill>
                <a:latin typeface="Arial"/>
              </a:rPr>
              <a:t>MALAT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a conserved 8-kb ncRNA whose expression correlates with the risk of developing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stasis in non-small-cell lung cancer (NSCLC) patients. We found 309 reads mapping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ong this regulatory ncRNAs, which, when assembled with the cap3 program, gave ris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14 contigs distributed on all the length of the ncRNA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suggests  that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LAT-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y be abundantly expressed in the analyzed breast cance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ple,  in accordance with previous resul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0728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Selected datasets from RG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exa fastq fil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polyA+ total RNA, single reads, K562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K562 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polyA+ cytosolic RNA, single reads, stranded, K562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K562 cy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cfasta fi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cytosolic long polyA+, K56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icos fasta fi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cytosolic long polyA+, K56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57120" y="213840"/>
            <a:ext cx="83296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0) Filter the polyA tails from all the reads using maq c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) Match all the reads against the Hs genome with bowtie. Parameters: &lt;= two mismatches in the first 28 nucleotides; choose only the best match for a given r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2) Matching reads are aligned against UCSC all_mrna: extended transcripto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3) UCSC UNMATCHED reads are matched against miRNA, snoRNA, tRNA, rRNA and EST databases.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EST matches represent the first interesting set of putative novel transcripts (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ubset A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4) UCSC MATCHING reads are aligned against CCDS nucleotide =&gt; canonical coding tran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4b) UCSC MATCHING without match in (4): compared against RefSeq coding and RefSeq non coding. Diff will give the reads matching only against ncRefSeq =&gt;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second interesting set to quantify and investiga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ubset B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5) Reads matching with the genome and not included in any of the previous steps are a third interesting potential candidate set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ubset C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(6) Subsets A,B and C are compared between the three technologies and clustered. These are the candidates which will be given to the non coding prediction pipe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Solexa (two libraries) and Helicos data went through all the steps of our pipeline, including matches with RefSeq ncRNAs and ESTs. A supplementary comparison step against NONCODE v 2.0 is being implemented and will start s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results have been loaded in a MySQL relational database and joined queries to extract the subset of sequences for successive ncRNA prediction have been created. Output files are in .gt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search and post processing files have been scripted (bowti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begin to use the new ABI mapping software (included in Bioscope) by the end of the month for the SOLiD dataset analy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23:45Z</dcterms:created>
  <dc:creator>Genomnia srl</dc:creator>
  <dc:description/>
  <dc:language>en-US</dc:language>
  <cp:lastModifiedBy>Genomnia srl</cp:lastModifiedBy>
  <dcterms:modified xsi:type="dcterms:W3CDTF">2009-12-15T16:24:17Z</dcterms:modified>
  <cp:revision>67</cp:revision>
  <dc:subject/>
  <dc:title>Finding the Needles in the Haystack: ncRNA search, identification and annotation in the RGASP RNASeq dataset from the K562 cell line </dc:title>
</cp:coreProperties>
</file>